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fd3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fd3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fd3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background%20info.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Fai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By: Tristin Padgett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752480"/>
          <a:ext cx="3123360" cy="4525200"/>
        </p:xfrm>
        <a:graphic>
          <a:graphicData uri="http://schemas.openxmlformats.org/drawingml/2006/table">
            <a:tbl>
              <a:tblPr/>
              <a:tblGrid>
                <a:gridCol w="1940760"/>
                <a:gridCol w="1182600"/>
              </a:tblGrid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tle Bo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y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y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y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 Bo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y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y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y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181480" y="1752480"/>
          <a:ext cx="3504600" cy="4753800"/>
        </p:xfrm>
        <a:graphic>
          <a:graphicData uri="http://schemas.openxmlformats.org/drawingml/2006/table">
            <a:tbl>
              <a:tblPr/>
              <a:tblGrid>
                <a:gridCol w="2215800"/>
                <a:gridCol w="1288800"/>
              </a:tblGrid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tle Gir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rl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9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r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rl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 Gir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rl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9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rl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rl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l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bfd3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bigger you are the more you can lift. 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This could help you for if you want to weight lift. 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You may know what you want to do so you can lift more or just weight more or less. 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d303"/>
                </a:solidFill>
                <a:latin typeface="Arial"/>
              </a:rPr>
              <a:t>People were maybe not trying their best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d303"/>
                </a:solidFill>
                <a:latin typeface="Arial"/>
              </a:rPr>
              <a:t>I could do squatting or other weight lifting things to see if it has another possibility.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 rot="1229400">
            <a:off x="2057400" y="2666880"/>
            <a:ext cx="5181480" cy="19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1 hou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d303"/>
                </a:solidFill>
                <a:latin typeface="Arial"/>
              </a:rPr>
              <a:t>#1 is Mrs. Riffel for taking time out of class to go down to the wellness center.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d303"/>
                </a:solidFill>
                <a:latin typeface="Arial"/>
              </a:rPr>
              <a:t>Then Jessica Thorpe, Sydney, Kylah, Mac, Sarah, Dyserah, Tristen Vagts, Zak, Caleb, Zane, Erik, Steven. 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d303"/>
                </a:solidFill>
                <a:latin typeface="Arial"/>
              </a:rPr>
              <a:t>THANK YOU ALL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21214200">
            <a:off x="228600" y="1523520"/>
            <a:ext cx="2604960" cy="195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 rot="250200">
            <a:off x="5943240" y="1523520"/>
            <a:ext cx="2960640" cy="222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1046200">
            <a:off x="6019560" y="4419360"/>
            <a:ext cx="2874960" cy="215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124080" y="1447920"/>
            <a:ext cx="2494080" cy="186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 rot="322800">
            <a:off x="304920" y="426672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581280" y="3581280"/>
            <a:ext cx="1981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Who Lifts More Depending On Your Weight?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I’m doing this because all kind of people say they can lift a lot more than everybody else so I’m doing to see if it is really true.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ckground Information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I predict….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The bigger you are the more you can lift. 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3 little girls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3 bigger girls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3 little boys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3 bigger boys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Weights 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Weight room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Paper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Pen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303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fd3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Get the people that I need.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d3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Then test them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d3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Weight them after they are done with the project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d3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Go over the results 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d3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Finally make a final decision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Independent: weight to lift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Dependent: Results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Controlled: Use same weight set + room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d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303"/>
                </a:solidFill>
                <a:latin typeface="Arial"/>
              </a:rPr>
              <a:t>After a while they started to get worn out with they weight they were lifting.</a:t>
            </a:r>
            <a:endParaRPr b="0" lang="en-US" sz="3200" spc="-1" strike="noStrike">
              <a:solidFill>
                <a:srgbClr val="bfd3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D376</cp:lastModifiedBy>
  <dcterms:modified xsi:type="dcterms:W3CDTF">2012-03-09T15:31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